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755967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1604520"/>
            <a:ext cx="6803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8000" y="3682080"/>
            <a:ext cx="6803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160452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64240" y="160452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000" y="368208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64240" y="368208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1604520"/>
            <a:ext cx="2190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78400" y="1604520"/>
            <a:ext cx="2190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79160" y="1604520"/>
            <a:ext cx="2190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8000" y="3682080"/>
            <a:ext cx="2190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78400" y="3682080"/>
            <a:ext cx="2190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979160" y="3682080"/>
            <a:ext cx="2190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78000" y="1604520"/>
            <a:ext cx="6803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78000" y="1604520"/>
            <a:ext cx="6803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78000" y="1604520"/>
            <a:ext cx="3319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64240" y="1604520"/>
            <a:ext cx="3319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78000" y="273600"/>
            <a:ext cx="6803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000" y="160452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64240" y="1604520"/>
            <a:ext cx="3319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78000" y="368208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000" y="1604520"/>
            <a:ext cx="3319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64240" y="160452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64240" y="368208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000" y="160452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64240" y="1604520"/>
            <a:ext cx="3319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8000" y="3682080"/>
            <a:ext cx="6803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273600"/>
            <a:ext cx="6803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604520"/>
            <a:ext cx="6803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sies.mte.gov.br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-233280"/>
            <a:ext cx="7561440" cy="709128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5986440"/>
            <a:ext cx="3564000" cy="8715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3852720" y="6207120"/>
            <a:ext cx="37087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268280"/>
            <a:ext cx="7561440" cy="4702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04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Org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46836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jetória da Economia Solid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3280" y="1152360"/>
            <a:ext cx="4429080" cy="2478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916360" y="3789360"/>
            <a:ext cx="43923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5514840" cy="569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554508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468360" y="40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jetória da Economia Solidária de 1990 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468360" y="404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ntes da ES n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59706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468360" y="404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ição de Mulheres e Ho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1268280"/>
            <a:ext cx="709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125360"/>
            <a:ext cx="5864400" cy="5140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404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ição de Mulheres e Ho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468360" y="404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ea de Atuação dos 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61930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468360" y="404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tos e Serviços da Economia Solid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75614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468360" y="404640"/>
            <a:ext cx="56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tos e Serviços da Economia Solid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me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81080" y="1484280"/>
            <a:ext cx="72849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468360" y="404640"/>
            <a:ext cx="56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tos e Serviços da Economia Solid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dia do Valor Me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52360" y="1413000"/>
            <a:ext cx="70642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734000" y="0"/>
            <a:ext cx="2827440" cy="1198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1080" y="2637000"/>
            <a:ext cx="73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junto de atividades econômic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das e realizadas solidariamente por trabalhadores e trabalhadoras sob a forma de autogest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8680" y="137016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a Solidá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28720" y="1125360"/>
            <a:ext cx="5826240" cy="5207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360" y="404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tos e Serviços da Economia Solid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468360" y="404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un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1773360"/>
            <a:ext cx="7561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468360" y="404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ão Col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75614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468360" y="404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dades Enfrent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75614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6081840" cy="4772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404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peração entre 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468360" y="404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çã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75614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5256360" cy="49514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468360" y="404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volvimento de Açõe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468360" y="404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189080" y="836640"/>
            <a:ext cx="50482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06280" y="1700280"/>
            <a:ext cx="7355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SzPct val="100000"/>
              <a:buBlip>
                <a:blip r:embed="rId1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dão apoio direto, capacitação, assessoria, incubação, assistência técnica e gerencial a Empreendimentos Econômicos  Solidá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1160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Social (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1160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da Sociedade Civil de Interesse Público (OSCI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1160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dação priv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1160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NG com natureza jurídica de associ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1160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iço social autônomo (Sebrae, Senar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1160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ubadoras universitárias ou núcleos de extensão universitár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734000" y="0"/>
            <a:ext cx="2827440" cy="119844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252360" y="692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AFs são ent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"/>
          <p:cNvSpPr/>
          <p:nvPr/>
        </p:nvSpPr>
        <p:spPr>
          <a:xfrm>
            <a:off x="468360" y="404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dades de Assessoria Apoio e Fomento à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6124680" cy="55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34000" y="0"/>
            <a:ext cx="2827440" cy="119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557360"/>
            <a:ext cx="3924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ividades econôm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ção de be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tação de serviç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anças solidári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ércio just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umo solidá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1484280"/>
            <a:ext cx="41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ganizações solidár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operativ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ssociaçõ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mpresas autogestor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Grupos solidá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des solidári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lubes de troca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96720" y="907920"/>
            <a:ext cx="6372360" cy="2114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900000" y="3213000"/>
            <a:ext cx="5184720" cy="302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04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dades de Assessoria Apoio e Fomento à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628640"/>
            <a:ext cx="7354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Aft>
                <a:spcPts val="1199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ém das informações disponíveis no Atlas, é possí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1160">
              <a:lnSpc>
                <a:spcPct val="100000"/>
              </a:lnSpc>
              <a:spcAft>
                <a:spcPts val="1100"/>
              </a:spcAft>
              <a:buClr>
                <a:srgbClr val="006600"/>
              </a:buClr>
              <a:buFont typeface="Wingdings" charset="2"/>
              <a:buChar char=""/>
              <a:tabLst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essar outras informações nacionais, estaduais e municipais da economia solidár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1160">
              <a:lnSpc>
                <a:spcPct val="100000"/>
              </a:lnSpc>
              <a:spcAft>
                <a:spcPts val="1100"/>
              </a:spcAft>
              <a:buClr>
                <a:srgbClr val="006600"/>
              </a:buClr>
              <a:buFont typeface="Wingdings" charset="2"/>
              <a:buChar char=""/>
              <a:tabLst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 Portaria Ministerial que institui o SIES, regulamentando o processo de coleta e disseminação de informações, inclusive o acesso aos microdad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1160">
              <a:lnSpc>
                <a:spcPct val="100000"/>
              </a:lnSpc>
              <a:spcAft>
                <a:spcPts val="1100"/>
              </a:spcAft>
              <a:buClr>
                <a:srgbClr val="006600"/>
              </a:buClr>
              <a:buFont typeface="Wingdings" charset="2"/>
              <a:buChar char=""/>
              <a:tabLst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zer uma autodeclaração do Empreendimento Econômico Solidário ou da Entidade de Apoio, Assessoria e Fomento, se ainda não estiver registrada no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60280"/>
            <a:ext cx="66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e a página do SIES na internet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ies.mte.gov.b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1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7561440" cy="4333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10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SIES vai fazer essa rede crescer e se fortale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2720" y="5734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órum Brasileiro de Economia Solid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797440" y="5516640"/>
            <a:ext cx="1297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6773760" cy="5214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91480" y="352440"/>
            <a:ext cx="47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Campo da Economia Solidária n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2360" y="3068640"/>
            <a:ext cx="6966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m sistema de identificação e registro de informações dos empreendimentos econômicos solidários e das entidades de apoio, assessoria e fomento à economia solidária no Bras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360" y="1197000"/>
            <a:ext cx="69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ES: Sistema de Informações da Economia Solidá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34000" y="0"/>
            <a:ext cx="28274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8200" y="1652760"/>
            <a:ext cx="708516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30000"/>
              </a:lnSpc>
              <a:spcBef>
                <a:spcPts val="275"/>
              </a:spcBef>
              <a:buSzPct val="100000"/>
              <a:buBlip>
                <a:blip r:embed="rId1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e caracterizar a Economia Solidá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30000"/>
              </a:lnSpc>
              <a:spcBef>
                <a:spcPts val="275"/>
              </a:spcBef>
              <a:buSzPct val="100000"/>
              <a:buBlip>
                <a:blip r:embed="rId2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alecer a organização e integrar redes de produção, comercialização e consu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30000"/>
              </a:lnSpc>
              <a:spcBef>
                <a:spcPts val="275"/>
              </a:spcBef>
              <a:buSzPct val="100000"/>
              <a:buBlip>
                <a:blip r:embed="rId3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ver o comércio justo e o consumo ét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30000"/>
              </a:lnSpc>
              <a:spcBef>
                <a:spcPts val="275"/>
              </a:spcBef>
              <a:buSzPct val="100000"/>
              <a:buBlip>
                <a:blip r:embed="rId4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ar a formulação de políticas públ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30000"/>
              </a:lnSpc>
              <a:spcBef>
                <a:spcPts val="275"/>
              </a:spcBef>
              <a:buSzPct val="100000"/>
              <a:buBlip>
                <a:blip r:embed="rId5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r a realização de estudos e pesquis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30000"/>
              </a:lnSpc>
              <a:spcBef>
                <a:spcPts val="275"/>
              </a:spcBef>
              <a:buSzPct val="100000"/>
              <a:buBlip>
                <a:blip r:embed="rId6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r visibilidade à Economia Solidária para obter reconhecimento e apoio públic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360" y="549360"/>
            <a:ext cx="41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4734000" y="0"/>
            <a:ext cx="28274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2360" y="2276640"/>
            <a:ext cx="70851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10000"/>
              </a:lnSpc>
              <a:buSzPct val="100000"/>
              <a:buBlip>
                <a:blip r:embed="rId1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letivas suprafamiliares de trabalhadores/as dos meios urbano e rural que exercem a gestão coletiva do empreend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10000"/>
              </a:lnSpc>
              <a:buSzPct val="100000"/>
              <a:buBlip>
                <a:blip r:embed="rId2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anentes (difere de práticas eventuai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10000"/>
              </a:lnSpc>
              <a:buSzPct val="100000"/>
              <a:buBlip>
                <a:blip r:embed="rId3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m dispor ou não de registro leg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10000"/>
              </a:lnSpc>
              <a:buSzPct val="100000"/>
              <a:buBlip>
                <a:blip r:embed="rId4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alizam atividades econômicas de produção, prestação de serviços, crédito popular, comercialização e consumo solidá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10000"/>
              </a:lnSpc>
              <a:buSzPct val="100000"/>
              <a:buBlip>
                <a:blip r:embed="rId5"/>
              </a:buBlip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organizações singulares ou complex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734000" y="0"/>
            <a:ext cx="2827440" cy="119844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73" name="" descr=""/>
            <p:cNvPicPr/>
            <p:nvPr/>
          </p:nvPicPr>
          <p:blipFill>
            <a:blip r:embed="rId7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8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0" y="549360"/>
            <a:ext cx="47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reendimentos Econômicos Solidários são organiz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916360" y="0"/>
            <a:ext cx="4278240" cy="6381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2637000"/>
            <a:ext cx="28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Empreendimentos Econômicos Solidários n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2916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61440" cy="6904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2720" y="260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 Mapa da Economia Solidária n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438960"/>
            <a:ext cx="7561080" cy="419040"/>
            <a:chOff x="0" y="6438960"/>
            <a:chExt cx="7561080" cy="41904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6438960"/>
              <a:ext cx="3709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3661200" y="6438960"/>
              <a:ext cx="389988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21:13:09Z</dcterms:created>
  <dc:creator>roberto.alves</dc:creator>
  <dc:description/>
  <dc:language>en-US</dc:language>
  <cp:lastModifiedBy>jonas.bertucci</cp:lastModifiedBy>
  <dcterms:modified xsi:type="dcterms:W3CDTF">2006-04-10T19:19:25Z</dcterms:modified>
  <cp:revision>272</cp:revision>
  <dc:subject/>
  <dc:title>Slide 1</dc:title>
</cp:coreProperties>
</file>